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391-4A0E-4A1A-8FA2-718C34F3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B38-5AFC-41B8-AB7C-2781FAD9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1D928-5758-4B63-9DF5-72AB96D8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43150-61BE-4CB4-95EE-7306C893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5B0D5-4021-4DA3-9AC9-AE483851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F9697-8BF4-4E94-B917-48B8981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CB0F1-F1E0-41E9-A6FF-6F8C7C7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D8158-6F8E-4A9A-8DEE-FF10113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93FBC-7973-4B00-885F-6906CDB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1AF40-14D0-47B7-9BB9-2E1AA2D9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40BDA-57CF-4EAD-BB54-0AD49F1B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230B9-611E-4A21-9905-14BC0280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FE2-C7F4-48C7-91F1-2B8571D8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5C95E-5AB7-47B9-8720-CF041AF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38A34-ABBA-4616-AEB1-3082FFC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FCAEC-C21B-4BC9-ABE1-4B7EE1B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1215E-52DE-4839-A64E-5242B896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5CAEC-9F4A-45D8-8B40-ECF4566E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F207-7AD6-4FE4-9B9D-C0D90F9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5BBA1-A3C7-4DFD-9A2E-DA629A5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ECD3-0E52-44A8-8656-0067794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87E5-DA2C-4FE6-9D3A-608E42E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3557B-ACE6-4339-899A-2D358902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2B7-2452-477D-AC40-EE231548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307F6-AC0B-4EF6-B29B-73450D6D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95210-3515-405A-B3DF-44240409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80DC0-830A-4803-9EF1-D7D4DDD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18200-8CA6-4290-932E-B1E54AEA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1ED6A-87E3-46B6-B0FB-2EF1B8B4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76664-C45E-4D7E-8E4D-C8FEFED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8B4C8-17BB-42FF-A2D6-DA60A523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0B62-BFC7-4632-AA3E-C153CAF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ED59E-D0B5-4C1F-AC84-67F1357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A611E-57D8-44C2-93B4-13CBD56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FF42-DD15-4ECF-8DC1-808057A1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7E328-9766-4EB2-A2D7-D3EDEF25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A1AC-E0B0-451E-BF85-FB8DF196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C3240-E771-4085-B77A-DA1FC127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B7656-7AA7-414D-B01D-B2DBB406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0E202-BAF5-452D-8197-371AD18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E4242-DCA8-43CF-9B25-F70131D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89AE3-DAB6-4696-BFA8-2FC35F43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BBF73-3328-4AFC-86B9-B9C8156A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2836B-DB54-42B1-B6AD-CD13D7A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CBE9A-D5AE-476D-A82E-CEBAF032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7A66-DE66-43A4-A4A4-8038154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3E3DA-6C8F-4D58-AFD9-D77E342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1646A-C4BE-4526-A507-086369FA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12DE5-F3C6-403B-8994-D768604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CCA9D-D466-4D04-A8C2-A4377438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5A625-1C92-452C-BD16-4524ABF1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C1F0B-BF2F-49C0-BE8B-0EC960A9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01773-1098-4DC6-8057-02618599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94AEF-8320-4796-A80F-2CA5B7F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39420-E762-4CC0-AC15-0616D48F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9B8A3-7526-4C49-8D55-65BCB24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25B8-8D5D-495E-A976-A10518A7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E5C60-2C70-4496-A4B9-087C182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6A650-F308-467B-B025-356116E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627BE-6657-4A9A-835F-9458343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30F7C-160B-4DBF-9942-F37D40E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2980C-771B-4032-8477-37F8B9A0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0F5D0-9871-4081-8746-E3497101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DFE9E-7329-4570-AACB-D7299372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9D003-6324-4FB2-98F9-9170679F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F5AFE-ABC6-4299-9362-6ED60E29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0FFF5-08D9-4A04-B7BF-070295B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0FDD-DB2C-4F54-8F52-8C9E6F4C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ECC9A-444A-429A-BFE7-810CE0BA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CD35E-4EAC-443C-AAA5-246DCC73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D1C07-08D6-4687-A0ED-A6F0C91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1EC56-C9E9-4C5C-91B0-457A36F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D5F9D-810C-4592-B424-2753F35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E3ADB-F8F6-4E08-8DDC-8E0672DD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78C51-9AB8-45F3-BD91-395D40D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99B91-2D3E-4562-BCB9-226C447E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5EF17-D099-4F66-A319-69E2D865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3C5-B354-4753-B794-30245B02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19E-854F-4658-A89B-75789BAF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AFB-307A-4C25-B347-3663A65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F54-109F-4FF5-ABF4-3A0E4FCB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CBF-3148-42F9-A62F-C2DCA049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C83C-A5D4-407D-80A6-EEDD0D3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EF3-4A7E-4116-8CCE-7FE4BC6A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4327-057F-4E71-A2C5-1EA17B36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A06-D6FE-4E6A-82B2-3EAC59A1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F190-1715-4D33-BF13-3B8E4A79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DD5A-3A06-40FF-9050-8C530CB9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647B-983F-4E79-BC26-047382D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D8D7-0827-4088-AA67-0FFC751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A9D8-DE22-43E7-B4D4-F973ECDC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F7B-5A18-4B21-B8A3-B216B68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8BAD-BAA6-4BEE-B844-E5EBD943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091F-D0A8-4025-85BA-85594BC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3F24-1629-4AD8-A429-518B42A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A771-A2B6-431A-8BB6-8C780E6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B416-2757-4E49-A249-9F88FD1C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9495-8CF3-400D-AA1E-7766C105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47C3-E066-4181-8748-544AB8EB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EB3BC-A662-4C84-9439-91BC4807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7A247-E1CF-402D-BAC4-46B9924A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28535-4926-4A4A-9BAF-2B49A2B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D22-0ECD-4F80-99F9-B54777F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71AA4-A332-4F43-823E-69854631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ACA95-99C9-4448-A91E-E4553081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E35F4-548F-42F5-A35B-18301463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C6952-6157-44C6-B7DB-30FDA66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90463-50D2-43B8-8C98-B82C8A7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834BC-AF49-449A-9B1E-0707687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22FEB-4257-4F48-85CA-7A34B65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6F97A-56A9-4D84-AA2B-056438CF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CFF3F-A875-42B3-A4E3-4502F31B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97719-41AA-4FFD-B030-AA4BDA6B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D4D-53AF-49AB-BE61-A3A47DF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F21F-E638-475F-B1E2-6809506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D3277-6865-46EF-AF25-2E761168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FD64-B67C-423D-961F-007A577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0DAB-1C89-43AE-BC83-BDDFEB8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028C-38EC-471A-BB22-793A581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4DE3-35E3-45FB-9720-7132F38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A0D0-B41D-4B53-9F1C-C360D68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583F-1542-42AF-992C-0A4A79F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460F-444C-4B99-8E4C-5862F44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0439-5023-4CA4-989A-13A475AC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830-BE2D-4F6C-8FB2-56FCB55F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E5E5-A474-4A29-B1AB-9F26F83A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137E5-1620-4414-8DB2-81FA9885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E0417-57FF-499C-B25C-6E5C522E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C4578-C5AD-438E-BFBE-139AFADE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18228-2009-41B7-8F62-71B99593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D58B9-B503-433C-833C-B3C1FBE7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85740-6F03-4359-93DA-7CE5DDA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0D5BB-4F95-430F-961D-E4B30110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20895-89F6-49F6-A68B-1C723FE7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B24CA-44DD-4160-8B5E-80A608A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A35-0516-4335-BA9F-645AEF7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C061B-DFC9-4B45-AF5B-4A8D06D4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CE7EB-F320-4A6D-AE8E-EAA99A8A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1E06A-B79D-4565-ACEE-57E94BDE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545DE-A4EC-485F-84DE-C4E8E12F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EEE0D-86B2-4F6D-A92B-FF321E39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C8CC2-A957-4366-85A3-FB595E1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FB2BB-4699-421B-84CF-1825029E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2EB8C-0FE6-415A-9A62-9C11EB56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96846-1137-4E02-AB71-8E51B8E2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47A13-282D-4CCB-96E1-75F031A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881-FBA2-4E8D-86E0-17437CD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03555-3711-4960-A3A6-CCFEC544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6C824-36BE-4566-87AB-67EA1E3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16A52-F297-46C3-9EBB-EF86367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281EF-FE80-4938-BAB9-AFE0F120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DB4F1-B58B-43ED-B107-4EB13F9D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A552C-DF97-41ED-AB4B-FAED9F75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AB926-2E01-429E-A758-7F5F38AA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DCCAAC-8196-486D-A0E0-795C41F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BB90C-51F9-445A-B5E3-02882EE3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44384-3BD3-47D0-8801-E056336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AB7-3B70-491B-8255-B924FEB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F4FA2-8C19-4BC7-9D5F-1D296167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9C724-09E6-413B-B857-2C1FD01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F7539-0568-4220-9BB4-0FF1553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2569D-3052-44AD-BDF0-9FB98E2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A480CD-C9E2-4621-A796-5B7C574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B661B7-1ED8-4B77-8B4E-B325B86C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43F01-F0CF-461C-BCAF-741A62EB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38F8D-4642-457C-A6E1-D0FA7B1E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7C96-0F4F-484F-A10C-17300B2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40BFE-CD93-45D9-B503-4F66C9A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BFD-83E4-4331-B6BB-07F9BD4FF82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tâ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tâ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Elips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54" name="Elips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2FEF-B5F5-41FA-817A-081A5848A984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510-F442-4FC2-AD54-069C4A85128A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tâ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tâ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AA3-AB45-4BCE-8B14-AC4CB2D557D4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F70-A9A0-4954-8418-7DD7EA5FD745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Retângu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24" name="Retângu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Fluxograma: Proces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luxograma: Proces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A471-C4D3-418B-B4AF-338FCE0AC5C2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osca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Rosca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0AA-BF5B-463C-9916-271BCB310281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0785-2EE7-4BD3-BE61-0859432F106A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2C1-BDE0-4F53-BA8C-0C42973C561F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495-1ACC-4B92-BD37-776C08B9CD6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9F5C-642C-4A26-A7BA-4DF69E263E1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79F-B4B0-4375-9885-2223CFF041DF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32E-B0AC-48FA-8891-1A9935A821D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Rosca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02" name="Rosca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Elips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07" name="Elips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554-EAFC-4C14-A0F7-FECB7B1445D7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85880" y="1213920"/>
            <a:ext cx="785808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OLLABORATIVE TEACHER DEVELOPMENT – CTD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(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JOHNSTON, K. E. 2009)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575f6d"/>
                </a:solidFill>
                <a:latin typeface="Century Schoolbook"/>
              </a:rPr>
              <a:t>Disciplina: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400" spc="-1" strike="noStrike">
                <a:solidFill>
                  <a:srgbClr val="575f6d"/>
                </a:solidFill>
                <a:latin typeface="Century Schoolbook"/>
              </a:rPr>
              <a:t>Tópicos Especiais de Lingüística Aplicada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575f6d"/>
                </a:solidFill>
                <a:latin typeface="Century Schoolbook"/>
              </a:rPr>
              <a:t>A formação do formador e do professor de língua estrangeira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575f6d"/>
                </a:solidFill>
                <a:latin typeface="Century Schoolbook"/>
              </a:rPr>
              <a:t>Docente: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400" spc="-1" strike="noStrike">
                <a:solidFill>
                  <a:srgbClr val="575f6d"/>
                </a:solidFill>
                <a:latin typeface="Century Schoolbook"/>
              </a:rPr>
              <a:t>Profa Dra Maria Helena Vieira Abrahã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575f6d"/>
                </a:solidFill>
                <a:latin typeface="Century Schoolbook"/>
              </a:rPr>
              <a:t>Discente: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Azenaide Abreu Soares VIEIRA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1" name="Picture 5" descr="logo_unesp_variacao1"/>
          <p:cNvPicPr/>
          <p:nvPr/>
        </p:nvPicPr>
        <p:blipFill>
          <a:blip r:embed="rId1"/>
          <a:stretch/>
        </p:blipFill>
        <p:spPr>
          <a:xfrm>
            <a:off x="2771640" y="115920"/>
            <a:ext cx="3314880" cy="42876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6"/>
          <p:cNvSpPr/>
          <p:nvPr/>
        </p:nvSpPr>
        <p:spPr>
          <a:xfrm>
            <a:off x="900000" y="549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Instituto de Biociências, Letras e Ciências Exatas</a:t>
            </a:r>
            <a:br>
              <a:rPr sz="900"/>
            </a:b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Campus de São José do Rio Pre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C:\Users\azenaide\Pictures\Ciranda.png"/>
          <p:cNvPicPr/>
          <p:nvPr/>
        </p:nvPicPr>
        <p:blipFill>
          <a:blip r:embed="rId2"/>
          <a:stretch/>
        </p:blipFill>
        <p:spPr>
          <a:xfrm>
            <a:off x="214200" y="3500280"/>
            <a:ext cx="2857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57120" y="214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entury Schoolbook"/>
              </a:rPr>
              <a:t>GRUPO DE  ESTUDO </a:t>
            </a: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(comunidade de prática): é um instrumento colaborativo que favorece a interação entre os professor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entury Schoolbook"/>
              </a:rPr>
              <a:t>EQUIPE DE ENSINO</a:t>
            </a: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: possibilita o preparo de aulas de um grupo de professores, em que as experiências são compartilhadas e refletidas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entury Schoolbook"/>
              </a:rPr>
              <a:t>COLABORAÇÃO A DISTÂNCIA </a:t>
            </a: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(EDGE, 2006): Trata do desenvolvimento profissional mediado pelo computador, em que a cooperação é desenvolvida ao longo do processo. É fundamental para o desenvolvimento de profissionais que vivem em lugares de difícil acesso.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TD não se restringe aos exemplos apresentad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MUDANÇAS E ENCAMINHAMENTO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é uma opção vital no repertório do desenvolvimento profissional do professor de Língu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ofessores precisam compreender suas práticas, defender suas ideias e contribuições para não aceitarem imposições de outro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Todos envolvidos no processo educacional devem reconhecer o valor do CTD, no sentido de  entenderem a importância do que os professores faz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57480" y="1571760"/>
            <a:ext cx="80010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ANGUAGE TEACHER SUPERVISION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Kathleen M. Bailey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714240" y="4000680"/>
            <a:ext cx="8143920" cy="2374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Disciplina: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i="1" lang="pt-BR" sz="2600" spc="-1" strike="noStrike">
                <a:solidFill>
                  <a:srgbClr val="320e04"/>
                </a:solidFill>
                <a:latin typeface="Gill Sans MT"/>
              </a:rPr>
              <a:t>Tópicos Especiais de Linguística Aplicada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320e04"/>
                </a:solidFill>
                <a:latin typeface="Gill Sans MT"/>
              </a:rPr>
              <a:t>A formação do formador e do professor de língua estrangeira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Docente: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i="1" lang="pt-BR" sz="2600" spc="-1" strike="noStrike">
                <a:solidFill>
                  <a:srgbClr val="320e04"/>
                </a:solidFill>
                <a:latin typeface="Gill Sans MT"/>
              </a:rPr>
              <a:t>Profa Dra Maria Helena Vieira Abrahã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Discente: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Azenaide Abreu Soares VIEI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4" name="Picture 5" descr="logo_unesp_variacao1"/>
          <p:cNvPicPr/>
          <p:nvPr/>
        </p:nvPicPr>
        <p:blipFill>
          <a:blip r:embed="rId1"/>
          <a:stretch/>
        </p:blipFill>
        <p:spPr>
          <a:xfrm>
            <a:off x="2771640" y="115920"/>
            <a:ext cx="3314880" cy="4287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6"/>
          <p:cNvSpPr/>
          <p:nvPr/>
        </p:nvSpPr>
        <p:spPr>
          <a:xfrm>
            <a:off x="900000" y="549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e7dec9"/>
                </a:solidFill>
                <a:latin typeface="Century Schoolbook"/>
              </a:rPr>
              <a:t>Instituto de Biociências, Letras e Ciências Exatas</a:t>
            </a:r>
            <a:br>
              <a:rPr sz="900"/>
            </a:br>
            <a:r>
              <a:rPr b="1" lang="pt-BR" sz="900" spc="-1" strike="noStrike">
                <a:solidFill>
                  <a:srgbClr val="e7dec9"/>
                </a:solidFill>
                <a:latin typeface="Century Schoolbook"/>
              </a:rPr>
              <a:t>Campus de São José do Rio Pre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" descr="C:\Users\azenaide\Pictures\webquest.png"/>
          <p:cNvPicPr/>
          <p:nvPr/>
        </p:nvPicPr>
        <p:blipFill>
          <a:blip r:embed="rId2"/>
          <a:stretch/>
        </p:blipFill>
        <p:spPr>
          <a:xfrm>
            <a:off x="6095880" y="128592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TIVOS DO TEX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9968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Discutir algumas questões chave sobre supervisão de professores de Língua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r supervisã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ferecer uma breve revisão da literatura sobre supervisã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Apresentar algumas questões problemáticas e possíveis encaminhamentos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Apresentar sugestões para leituras sobre supervisã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DELIMITAÇÃO E DEFINIÇÕES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Supervisão é definida como de responsabilidade e função organizacional focada na avaliação e refinamento de práticas correntes (GOLDSBERRY, 1988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Supervisão é um processo de revisão de habilidade de pessoas, a fim de alcançar as metas estabelecidas pelo órgão em que trabalham (DARESH, 2001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o ensino de Línguas, supervisão é definida como o processo de desenvolvimento do professor de línguas em que o supervisor observa suas aulas, tendo em mente os objetivos institucionais (GEBHARD, 1990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É a função que alguém tem de monitorar e melhorar a qualidade do ensino de outros colegas em uma situação educacional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pt-BR" sz="4000" spc="-1" strike="noStrike">
                <a:solidFill>
                  <a:srgbClr val="575f6d"/>
                </a:solidFill>
                <a:latin typeface="Century Schoolbook"/>
              </a:rPr>
              <a:t>REVISÃO DA LITERATUR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KNOP (1980): apresenta a 1. abordagem científica; 2. democrática; e 3. supervisão clínic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1. Na Abordagem Científica, o trabalho de supervisão parte da análise de interações para investigar comportamentos em sala de aula e o desenvolvimento de competências pelo professor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2. A Abordagem Democrática vê o trabalho de supervisão como uma terapi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3. Na supervisão Clínica o professor e o supervisor decidem juntos os objetivos que têm a alcançar e os caminhos metodológicos que trilharã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Century Schoolbook"/>
              </a:rPr>
              <a:t>REVISÃO DA LITERATUR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REEMAN (1982, 1989) – 03 modelos de supervis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DIRETIVA: modelo tradicional de supervisão, em que o supervisor é visto como um especialista que dá a solução ao problemas (poder no supervisor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ÃO DIRETIVA: o supervisor ouve o professor  sem fazer julgamento. O mesmo interpreta como o professor trabalha e o ajuda a tomar decisões (professor tem o direito de falar e tomar decisão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LTERNATIVA: o supervisor sugere alternativas e ajuda o professor naquilo que ele está desenvolvendo (discussão de tópicos e decisões são negociada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75f6d"/>
                </a:solidFill>
                <a:latin typeface="Century Schoolbook"/>
              </a:rPr>
              <a:t>REVISÃO DA LITERATURA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GEBHARD (1984) - 05 modelos de supervisã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DIRE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NÃO-DIRE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ALTERNA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OLABORATIVA: O supervisor participa ativamente em todas as decisões que são tomadas durante o processo. Ele trabalha junto com o professor, mas não o conduz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RIATIVA: Ele precisa atender as necessidades do professor, de acordo com a realidade e o contexto de atuação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575f6d"/>
                </a:solidFill>
                <a:latin typeface="Century Schoolbook"/>
              </a:rPr>
              <a:t>ABORDAGENS E PRÁTICAS CONTEMPORÂNEAS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57120" y="107136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papel da supervisão atualmente é ajudar professores iniciantes a desenvolver competência profissional, mediante reflexão sobre sua prática conforme problemas encontrados em sala de aula (GEBHARD, 1990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supervisor não é mais um especialista e sim um colega que encoraja o professor a praticar a reflexão (CHAMBERLIN, 2000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trabalho do supervisão passa a focar o pensamento do professor sobre ensino mais do que sua forma atual de ensinar  (GOLDSBERRY, 1988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ABORDAGENS E PRÁTICAS CONTEMPORÂNEAS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Há duas (02) forças de trabalho em vigor para promover a qualidade no ensino de línguas atualmente:  forças sociais e forças individuai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1. Forças sociais são ações governamentais e ações institucionai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2. forças individuais: são tendências individuais que conduzem à prática reflexiva, em que professores se responsabilizam por seu desenvolvimento profissional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É nesse contexto variantes que o supervisor do professor de língua atua para melhorar o ensino, de acordo com objetivos mais ampl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TIVOS DO TEX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ferecer a definição de CTD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Sugerir possíveis respostas ao questionamento de quem colabora com qu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ntroduzir modelos utilizados para estruturar o desenvolvimento colaborativ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Mencionar algumas técnicas e métodos geralmente utilizados em CTD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ENCAMINHAMENTOS E DIREÇÕE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os últimos anos têm se preocupado em compreender  como o professor aprende e muda, a fim de que haja uma supervisão mais eficaz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literatura recente sobre supervisão tem sido influenciada pel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nálise do discurso: para investigar a língua em us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eoria sociocultural: para compreender a forma como o professor aprende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ecnologia: para coletar informações de aula e discutir os dado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ANÁLISE DO DISCURSO E SUPERVISÃO DO PROFESSOR DE LÍNGUA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WAJNRYB (1994; 1998): verificou que supervisores geralmente atenuam o discurso de professores e professores formadores. Percebeu em seus dados três estratégias de ênfase no discurso: sintática, semântica e ênfase indiret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mudança verificada no perfil do supervisor de professor de língua é em relação a criticidade. Nesse sentido os supervisores devem ser gentis para que professores possam ouvir e compreender a mensag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ANÁLISE DO DISCURSO E SUPERVISÃO DO PROFESSOR DE LÍNGUA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WILLIAMS E WATSON (2004): contrastaram o discurso de três professores formadores, em um momento de feedback, logo após o desenvolvimento de uma atividade. O autores perceberam que observar o discurso e a auto-avaliação dos participantes, podem promover  a reflexão por parte dos formador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ILLER (2008): analisou e.mails trocados entre ela e um falante Chinês nativo, que estava inscrito em um programa de formação de professores de Língua Inglesa na Austrália. Miller observou que tanto suas experiências como as teorias acadêmicas embasam o professor em suas respost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TEORIA SOCIOCULTURAL </a:t>
            </a:r>
            <a:r>
              <a:rPr b="0" lang="pt-BR" sz="3200" spc="-1" strike="noStrike">
                <a:solidFill>
                  <a:srgbClr val="575f6d"/>
                </a:solidFill>
                <a:latin typeface="Century Schoolbook"/>
              </a:rPr>
              <a:t>E</a:t>
            </a: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 SUPERVISÃO DO PROFESSOR DE LÍNGUA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 influência da teoria sociocultural vem da Psicologia Educacion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VAN LIER (1995); há uma variedade de habilidades e conhecimentos que podem ser construídas pela assistência de uma outra pessoa (ZDP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RUEDA (1998): ambientes institucionais efetivo de aprendizagem dependem de quanto os profissionais são preparados para manter o desenvolvimento profissional de professore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Rueda enfatiza que o relacionamento entre professor e supervisor não pode ser unilateral. Supervisores devem aprender com professores e vice-vers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2840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05 PRINCÍPIOS DA TEORIA SOCIOCULTURAL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2840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O ensino e aprendizagem são ações sociais e não individuais. A aprendizagem pode ocorrer quando problemas são resolvidos entre professores experientes e iniciantes em trabalho coletivo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Professores supervisores podem ser promotores de aprendizagem. A língua é vista como uma importante ferramenta para mediar a interaçã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Possibilita contextualizar ensino, aprendizagem e atividades produzidas coletivamente nas experiências e habilidades dos participantes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As atividades devem mudar do mais simples para o mais complexo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ontribuir para engajar os participantes em diálogo, especialmente em conversas instrucionais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28400" y="-143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TECNOLOGIA E SUPERVISÃO DO PROFESSOR DE LÍNGUA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AILÂNDIA: professores em pré-serviço usam a comunicação pela internet  para manter contato com seus supervisores (HSIUNG E TAN, 1999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EBRASKA: professores em pré-serviço mantêm gravações das aulas que observam. Tais gravações são usadas pelo supervisor para fomentar discussõe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INDIA: Discussões em grupo por e.mails, webcams e páginas na web são utilizadas por supervisores em curso de aperfeiçoamento docen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GEORGIA (USA): supervisores usam videoconferência para observar professores a distância e promover interação entre professores e supervisores, assim como professores em serviço e em pré-serviç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CONSIDERAÇÕES FINA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assamos por diferentes abordagens para supervisã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abordagem reflexiva tem emergido como dominante (WALLACE, 199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incípios da teoria sociocultural e da análise do discurso oferece aos professores caminhos para melhorar a prática de supervisão de professores de língua. A tecnologia colabora com o registro das interações e para promover a reflexão-sobre-a-açã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28800" y="1785600"/>
            <a:ext cx="8215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75f6d"/>
                </a:solidFill>
                <a:latin typeface="Century Schoolbook"/>
              </a:rPr>
              <a:t>BUILD IT AND THEY WILL COME: REALISING VALUES IN ESOL TEACHER EDUCATION (</a:t>
            </a:r>
            <a:r>
              <a:rPr b="1" lang="pt-BR" sz="2200" spc="-1" strike="noStrike">
                <a:solidFill>
                  <a:srgbClr val="575f6d"/>
                </a:solidFill>
                <a:latin typeface="Century Schoolbook"/>
              </a:rPr>
              <a:t>JULIAN EDGE, 2005)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285920" y="4000680"/>
            <a:ext cx="7572240" cy="23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75f6d"/>
                </a:solidFill>
                <a:latin typeface="Century Schoolbook"/>
              </a:rPr>
              <a:t>Disciplina: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800" spc="-1" strike="noStrike">
                <a:solidFill>
                  <a:srgbClr val="575f6d"/>
                </a:solidFill>
                <a:latin typeface="Century Schoolbook"/>
              </a:rPr>
              <a:t>Tópicos Especiais de Lingüística Aplicada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575f6d"/>
                </a:solidFill>
                <a:latin typeface="Century Schoolbook"/>
              </a:rPr>
              <a:t>A formação do formador e do professor de língua estrangeira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75f6d"/>
                </a:solidFill>
                <a:latin typeface="Century Schoolbook"/>
              </a:rPr>
              <a:t>Docente: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800" spc="-1" strike="noStrike">
                <a:solidFill>
                  <a:srgbClr val="575f6d"/>
                </a:solidFill>
                <a:latin typeface="Century Schoolbook"/>
              </a:rPr>
              <a:t>Profa Dra Maria Helena Vieira Abrahã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75f6d"/>
                </a:solidFill>
                <a:latin typeface="Century Schoolbook"/>
              </a:rPr>
              <a:t>Discente: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Azenaide Abreu Soares VIEI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7" name="Picture 5" descr="logo_unesp_variacao1"/>
          <p:cNvPicPr/>
          <p:nvPr/>
        </p:nvPicPr>
        <p:blipFill>
          <a:blip r:embed="rId1"/>
          <a:stretch/>
        </p:blipFill>
        <p:spPr>
          <a:xfrm>
            <a:off x="2771640" y="115920"/>
            <a:ext cx="3314880" cy="4287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6"/>
          <p:cNvSpPr/>
          <p:nvPr/>
        </p:nvSpPr>
        <p:spPr>
          <a:xfrm>
            <a:off x="900000" y="549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Instituto de Biociências, Letras e Ciências Exatas</a:t>
            </a:r>
            <a:br>
              <a:rPr sz="900"/>
            </a:b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Campus de São José do Rio Pre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OBJETIVOS DO TEXT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sboçar um horizonte mais amplo sobre colaboração em programa de formação de professores de língua como segunda língu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presentar alguns trabalhos (de sua autoria) que trata da abordagem colabor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UM HORIZONTE MAIO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9968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Passou a ser formador de professores nos anos 70 do século passad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Compreende que é não apenas o que ele diz; mas também o que ele faz; e como faz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Entende o professor de língua inglesa como uma pessoa que transmite valores no campo político, econômico, militar e cultural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VALORES POLÍTICOS – governante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ECONÔMICO: comercialização e globalizaçã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MILITAR: guerra do Iraque, ataque ao World Trade Cen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CULTURAL: desvalorização da mul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ÇÃ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ntes o desenvolvimento do professor era visto como algo isolad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tualmente o paradigma CTD compreende o desenvolvimento do professor como sendo desencadeado pela colaboraçã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aprendizagem do professor é compreendida como um processo social fundament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concebe o desenvolvimento do professor como um processo individual e soci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57120" y="142884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Edge traz uma mensagem de liberdade, igualdade e comunidad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LIBERDADE: conquistada por cada professor para se responsabilizar em fazer o melhor, independente  de métodos e técnicas. Trata de uma liberdade que deve ser conquistada. Liberdade não é algo que alguém pode dar; liberdade é algo que as pessoas conquistam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Adota uma abordagem de pesquisa-ação. Acredita que o professor (ele) é o construtor de conhecimento primário, ou seja, ele sabe como seus alunos aprendem, os especialistas nã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UM HORIZONTE MAIO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A AQUEC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rante 10 anos (1992/2002) presenciou conferências em que uma pessoa fala e os demais compreend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ideia era de que a interação envolvia um orador e espectadore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m 2002 apresentou esboço detalhado da abordagem cooperativa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de de então desenvolve pesquisas, cujo propósito é desenvolver senso de comunidades colaborativa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SUA PESQUISA COLABORATIV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ticipantes: professores formadores  (colegas de trabalho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m suas observações acompanhou  o processo reflexiv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 medida em que os participantes declaravam ações que gostariam de desenvolver, as ideias se mostravam mais articulada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ercebeu que a reflexão leva para um foco mais complexo e articulad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s participantes usavam experiências pessoais e pensamentos para compreender suas dificuldades e objetivos profissionai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partir da percepção de limitações, os pensamentos evolu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sessões de diálogo colaborativo possibilita a descoberta de estratégias para superação de limitaçõe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CONSIDERAÇÕES FIN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ANKS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42" name="Espaço Reservado para Conteúdo 3" descr="Chat.jpg"/>
          <p:cNvPicPr/>
          <p:nvPr/>
        </p:nvPicPr>
        <p:blipFill>
          <a:blip r:embed="rId1"/>
          <a:stretch/>
        </p:blipFill>
        <p:spPr>
          <a:xfrm>
            <a:off x="2454120" y="2879640"/>
            <a:ext cx="40420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28400" y="-357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DEFINIÇÃO DE CTD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2840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...trata de uma investigação embasada e sistematizada sobre ensino e aprendizagem, em que um professor voluntariamente colabora com outros professores envolvidos  no processo de ensino, cujo foco principal é o desenvolvimento profissional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CTD compreende o desenvolvimento profissional não apenas como um produto de outros processos de desenvolvimento. Ele é construído pelos profissionais como um componente central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PROFESSOR É O NÚCLEO DO CT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QUEM COLABORA COM QUEM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28400" y="1071360"/>
            <a:ext cx="8258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04 possibilidades de colaboração em cenário educaciona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1. Professor pode colaborar com seus colegas de trabalho (outros professores de Língua), compartilhamento de material, aulas, experiências etc...O fato de compartilharem de algumas características similares (contextos, alunos) favorece o processo de desenvolvimento profission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2. A colaboração pode ocorrer entre professores da educação básica e resultados de pesquisas científicas (universidade e escola). Nesse caso a colaboração pode ser mais teoricamente embasada e contribui para aumentar o interesse do professor em teorizar sua prátic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968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QUEM COLABORA COM QU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3. O professor pode colaborar com seus alunos. É uma importante posição filosófica, que coloca o aluno como participante importante do processo e favorece a pedagogia crítica, na qual ressalta a importância de se ter o aprendiz como participante principal no proces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4. O professor pode colaborar com os demais envolvidos no processo (outros professores, gestores, pais, coordenadores, autores de material didático; 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575f6d"/>
                </a:solidFill>
                <a:latin typeface="Century Schoolbook"/>
              </a:rPr>
              <a:t>ABORDAGENS E PRÁTICAS CONTEMPORÂNEAS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não é uma metodologia particular, um sistema, ou teori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são valores e certas atitudes que permeiam o ensino e o desenvolvimento de professores. Mas esses valores não são associados com nenhum método em particu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pt-BR" sz="2000" spc="-1" strike="noStrike">
                <a:solidFill>
                  <a:srgbClr val="575f6d"/>
                </a:solidFill>
                <a:latin typeface="Century Schoolbook"/>
              </a:rPr>
              <a:t>ESTRUTURA DO DESENVOLVIMENTO COLABORATIVO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28400" y="1071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PESQUISA-AÇÃO: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pode ser conduzida em trabalhos individuais de professores com o objetivo de mudar ou entender suas aulas e contextos. Tem como pano de fundo a ação colaborativa (BURNS, 1999). A pesquisa-ação contribui para o crescimento individual profissional. Trata de pesquisa com pessoas e não sobre pesso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NARRATIVAS: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 narrativa é um recurso importante para o crescimento profissional, pois são histórias de professores sobre suas experiências de ensino. A narrativa é considerada CTD pelo fato de envolver dois profissionais: um que relata suas experiências e outro que as ouve.  Ambos podem aprender de forma coletiva ou individu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42840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DESENVOLVIMENTO COOPERATIVO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: assim como nas narrativas e na pesquisa-ação, há necessidade de um profissional que fala e outro que compreende. A cooperação envolve pares de professores dispostos a investigar sua prática docen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PRÁTICA EXPLORATÓRIA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(ALLWRIGHT, 2003):  trata da investigação realizada pelo professor de sua própria prática, em contexto autêntico de aula. O professor passa a ser pesquisador e investigador de sua própria prática. A prática exploratória envolve a colaboração entre professor e alunos e professor/professor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JORNAL DIALOGADO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(BURTON E CARROLL, 2001): Tem uma natureza colaborativa, é uma ferramenta poderosa para o desenvolvimento de professor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2:13:30Z</dcterms:created>
  <dc:creator>azenaide</dc:creator>
  <dc:description/>
  <dc:language>en-US</dc:language>
  <cp:lastModifiedBy>azenaide</cp:lastModifiedBy>
  <dcterms:modified xsi:type="dcterms:W3CDTF">2010-06-23T12:01:33Z</dcterms:modified>
  <cp:revision>56</cp:revision>
  <dc:subject/>
  <dc:title>Slide 1</dc:title>
</cp:coreProperties>
</file>